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279-DBCF-4FB2-8105-0006733B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F2F-4C77-4A28-B3C9-87E3A36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9FF3-6841-4481-846D-F038A165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348-C30B-432D-A145-CAA736AA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4AD-F9FB-442B-BDFA-0FC596D1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A69-D2B6-481B-A612-B8F16924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511-0CB8-4401-953C-1F70E1E6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6F2-9993-4892-8425-06F0E523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C4B-552E-4792-BB9A-FD8636E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B9B-C0BE-4053-B6FE-2C8A5126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1B6-09D5-444C-BA38-36E4E3A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F91-73AC-4CF6-BF16-2FB747F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305-C281-4837-ABA8-55884A936A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81080" y="1773000"/>
            <a:ext cx="7128000" cy="3112560"/>
            <a:chOff x="1081080" y="1773000"/>
            <a:chExt cx="7128000" cy="3112560"/>
          </a:xfrm>
        </p:grpSpPr>
        <p:sp>
          <p:nvSpPr>
            <p:cNvPr id="42" name=""/>
            <p:cNvSpPr/>
            <p:nvPr/>
          </p:nvSpPr>
          <p:spPr>
            <a:xfrm rot="16200000">
              <a:off x="3853440" y="3392640"/>
              <a:ext cx="100836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site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6200000">
              <a:off x="3853800" y="1808640"/>
              <a:ext cx="100800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ty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5293440" y="3392640"/>
              <a:ext cx="1008360" cy="9367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und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" name=""/>
            <p:cNvCxnSpPr>
              <a:stCxn id="42" idx="3"/>
              <a:endCxn id="43" idx="1"/>
            </p:cNvCxnSpPr>
            <p:nvPr/>
          </p:nvCxnSpPr>
          <p:spPr>
            <a:xfrm flipH="1" flipV="1">
              <a:off x="4357800" y="2781000"/>
              <a:ext cx="720" cy="57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" name=""/>
            <p:cNvSpPr/>
            <p:nvPr/>
          </p:nvSpPr>
          <p:spPr>
            <a:xfrm rot="16200000">
              <a:off x="4034160" y="294516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1405080" y="3609360"/>
              <a:ext cx="1584360" cy="505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 current pa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om top of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200000">
              <a:off x="241308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 curr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’s next chil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"/>
            <p:cNvCxnSpPr>
              <a:stCxn id="47" idx="2"/>
              <a:endCxn id="48" idx="0"/>
            </p:cNvCxnSpPr>
            <p:nvPr/>
          </p:nvCxnSpPr>
          <p:spPr>
            <a:xfrm flipV="1">
              <a:off x="2449800" y="3862080"/>
              <a:ext cx="50400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8" idx="2"/>
              <a:endCxn id="42" idx="0"/>
            </p:cNvCxnSpPr>
            <p:nvPr/>
          </p:nvCxnSpPr>
          <p:spPr>
            <a:xfrm flipV="1">
              <a:off x="3457800" y="3861720"/>
              <a:ext cx="43236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" name=""/>
            <p:cNvCxnSpPr>
              <a:stCxn id="42" idx="2"/>
              <a:endCxn id="44" idx="0"/>
            </p:cNvCxnSpPr>
            <p:nvPr/>
          </p:nvCxnSpPr>
          <p:spPr>
            <a:xfrm>
              <a:off x="4826160" y="3861720"/>
              <a:ext cx="504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" name=""/>
            <p:cNvSpPr/>
            <p:nvPr/>
          </p:nvSpPr>
          <p:spPr>
            <a:xfrm rot="16200000">
              <a:off x="4847760" y="3549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5365080" y="2097360"/>
              <a:ext cx="863640" cy="36036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4" idx="3"/>
              <a:endCxn id="53" idx="1"/>
            </p:cNvCxnSpPr>
            <p:nvPr/>
          </p:nvCxnSpPr>
          <p:spPr>
            <a:xfrm flipH="1" flipV="1">
              <a:off x="5797080" y="2709360"/>
              <a:ext cx="1440" cy="648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"/>
            <p:cNvSpPr/>
            <p:nvPr/>
          </p:nvSpPr>
          <p:spPr>
            <a:xfrm rot="16200000">
              <a:off x="5475600" y="292464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" name=""/>
            <p:cNvCxnSpPr>
              <a:stCxn id="43" idx="2"/>
              <a:endCxn id="53" idx="0"/>
            </p:cNvCxnSpPr>
            <p:nvPr/>
          </p:nvCxnSpPr>
          <p:spPr>
            <a:xfrm>
              <a:off x="4826160" y="2277000"/>
              <a:ext cx="79092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" name=""/>
            <p:cNvSpPr/>
            <p:nvPr/>
          </p:nvSpPr>
          <p:spPr>
            <a:xfrm rot="16200000">
              <a:off x="4826520" y="193068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541440" y="3609360"/>
              <a:ext cx="1584360" cy="505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sh source vert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nto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" name=""/>
            <p:cNvCxnSpPr>
              <a:stCxn id="58" idx="2"/>
              <a:endCxn id="47" idx="0"/>
            </p:cNvCxnSpPr>
            <p:nvPr/>
          </p:nvCxnSpPr>
          <p:spPr>
            <a:xfrm>
              <a:off x="1586160" y="3862440"/>
              <a:ext cx="3589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3" idx="0"/>
              <a:endCxn id="47" idx="3"/>
            </p:cNvCxnSpPr>
            <p:nvPr/>
          </p:nvCxnSpPr>
          <p:spPr>
            <a:xfrm flipV="1" rot="10800000">
              <a:off x="2197440" y="2276640"/>
              <a:ext cx="1692360" cy="79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 rot="16200000">
              <a:off x="3408120" y="19504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622944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sh child o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 of que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200000">
              <a:off x="7164360" y="3609360"/>
              <a:ext cx="1584360" cy="5047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t child as ‘visited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"/>
            <p:cNvCxnSpPr>
              <a:stCxn id="44" idx="2"/>
              <a:endCxn id="62" idx="0"/>
            </p:cNvCxnSpPr>
            <p:nvPr/>
          </p:nvCxnSpPr>
          <p:spPr>
            <a:xfrm>
              <a:off x="6266160" y="3861720"/>
              <a:ext cx="504000" cy="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2" idx="2"/>
              <a:endCxn id="63" idx="0"/>
            </p:cNvCxnSpPr>
            <p:nvPr/>
          </p:nvCxnSpPr>
          <p:spPr>
            <a:xfrm>
              <a:off x="7274160" y="3862080"/>
              <a:ext cx="4309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 rot="16200000">
              <a:off x="6287760" y="35348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"/>
            <p:cNvCxnSpPr>
              <a:stCxn id="63" idx="1"/>
              <a:endCxn id="48" idx="1"/>
            </p:cNvCxnSpPr>
            <p:nvPr/>
          </p:nvCxnSpPr>
          <p:spPr>
            <a:xfrm rot="16200000">
              <a:off x="5581440" y="2278440"/>
              <a:ext cx="360" cy="4751640"/>
            </a:xfrm>
            <a:prstGeom prst="bentConnector3">
              <a:avLst>
                <a:gd name="adj1" fmla="val 643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" name=""/>
          <p:cNvSpPr/>
          <p:nvPr/>
        </p:nvSpPr>
        <p:spPr>
          <a:xfrm rot="16200000">
            <a:off x="214920" y="5700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50:03Z</dcterms:modified>
  <cp:revision>24</cp:revision>
  <dc:subject/>
  <dc:title>Slide 1</dc:title>
</cp:coreProperties>
</file>